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555-058F-4C66-8DD8-9299AF6A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22F-38A2-4390-97F5-AC7AD09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379-5723-4536-91D8-CE834F4B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6AF-315E-49F8-909A-C7EC6A25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87D-2932-4DC0-AB85-751E5689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B4C-6475-4AC9-88AE-0EA0925D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A93-CD39-44E1-84EB-508CFDD2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773-F42E-4BAC-8D87-2C0F789A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540-7844-4C56-A869-02B3145A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B14-7670-4265-B774-93D0A93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0DB-B176-4079-A928-46C1073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E2F-F77C-4537-B5F7-9298C13E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AAB6-D294-42AB-B834-6B46C4DF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5640" y="2890800"/>
            <a:ext cx="7991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Аз ще възпея на Исуса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чудната Му любов към мен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че Той на кръста зле пострада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за да съм аз освободен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57360" y="2922480"/>
            <a:ext cx="782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ей, о, пей за тоз Спасите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оя дълг Той е заплати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ен със кръвта Си е изкуп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от греха освобод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080" y="3608280"/>
            <a:ext cx="816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Аз ще да хваля тоз Спасител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че е надвил над сатана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тъй е станал Победител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над греховете и смърт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7360" y="2922480"/>
            <a:ext cx="782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ей, о, пей за тоз Спасите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оя дълг Той е заплати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ен със кръвта Си е изкуп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от греха освобод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9360" y="3679920"/>
            <a:ext cx="7325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За мой Спас ще аз да пея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на кръста как за мен умря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та във блаженство да живея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дружно със Него във неб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7360" y="2922480"/>
            <a:ext cx="782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ей, о, пей за тоз Спасите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оя дълг Той е заплати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ен със кръвта Си е изкуп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от греха освобод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7:36:00Z</dcterms:created>
  <dc:creator>TrifonTrifonow</dc:creator>
  <dc:description/>
  <dc:language>en-US</dc:language>
  <cp:lastModifiedBy>TrifonTrifonow</cp:lastModifiedBy>
  <dcterms:modified xsi:type="dcterms:W3CDTF">2005-11-22T07:16:42Z</dcterms:modified>
  <cp:revision>10</cp:revision>
  <dc:subject/>
  <dc:title>Slide 1</dc:title>
</cp:coreProperties>
</file>